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3B38-F02A-47CA-991E-F95E774D7F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visual magnitude MV = 4.8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 temperature = 15 million 0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0.73,  Y = 0.25,  Z = 0.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itial abundanc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: ~ 4.52 Gy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al type G2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ffective (surface) temperature = 5770 0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bolometric magnitude Mbol = 4.7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isual magnitude MV = 4.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temperature = 15 million 0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0.73,  Y = 0.25,  Z = 0.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abunda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: ~ 4.52 G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al type G2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ive (surface) temperature = 5770 0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bolometric magnitude Mbol = 4.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s in Sun Spo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s on the photosphere can be measured through the Zeeman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are related to magnetic activity on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Fields in Sun Spo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fields on the photosphere can be measured through the Zeeman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 are related to magnetic activity on the 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(I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ed to magnetic activ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 in sun spots is about 1000 times stronger than aver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sun spots, magnetic field lines emerge out of the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North 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South 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 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magnetic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field in sun spots is about 1000 times stronger than aver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un spots, magnetic field lines emerge out of the photosp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North P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South P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Lo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ejection from the sun often follow magnetic field loo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field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ejection from the sun often follow magnetic field loo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-year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ersal of magnetic po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11 years, North/South order of leading/trailing sun spots is rever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&gt; Total solar cycle = 22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ar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year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rsal of magnetic po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11 years, North/South order of leading/trailing sun spots is rever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&gt; Total solar cycle = 22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Magnetic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11 years, the magnetic field pattern becomes so complex that the field structure is re-arrang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magnetic field structure is similar to the original one, but revers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11-year cycle starts with reversed magnetic-field ori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’s Magnetic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11 years, the magnetic field pattern becomes so complex that the field structure is re-arrang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magnetic field structure is similar to the original one, but revers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11-year cycle starts with reversed magnetic-field ori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ycle (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under Butterfly Dia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 cycle starts out with spots at higher latitudes on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olve to lower latitudes (towards the equator) throughout the cy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ar Cycle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under Butterfly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 cycle starts out with spots at higher latitudes on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ve to lower latitudes (towards the equator) throughout the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under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spot number also fluctuates on much longer time sca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ical data indicate a very quiet phase of the sun, ~ 1650 – 1700: The Maunder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under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spot number also fluctuates on much longer time sca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data indicate a very quiet phase of the sun, ~ 1650 – 1700: The Maunder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ped Prominences: gas ejected from the sun’s photosphere, flowing along magnetic lo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ped Prominences: gas ejected from the sun’s photosphere, flowing along magnetic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uptive 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Ultraviolet imag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eme events, called coronal mass ejections (CMEs) and solar flares, can significantly influence Earth’s magnetic field structure and cause northern lights (aurora boreali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uptive Promin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ltraviolet ima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 events, called coronal mass ejections (CMEs) and solar flares, can significantly influence Earth’s magnetic field structure and cause northern lights (aurora boreali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ruptive 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(Ultraviolet imag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ruptive Promin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Ultraviolet ima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Interior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, density and pressure decr. outw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generation via nuclear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transport via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transport via con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 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’s Interior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, density and pressure decr. out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generation via nuclear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transport via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transport via conv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Auro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waves produced by a solar fl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~ 5 min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Aur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 produced by a solar fl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ic structures visible in Ha em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 of sun’s atmosphere just above the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: 4400 K → 25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: 1011 cm-3 → 107 cm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rption and emission lines from singly ionized metals (He II, Fe II, Si II, Cr II, Ca 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pheric structures visible in Ha e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 of sun’s atmosphere just above the photosp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: 4400 K → 25,00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: 1011 cm-3 → 107 cm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and emission lines from singly ionized metals (He II, Fe II, Si II, Cr II, Ca 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romosphere (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cules = filaments of hot gas, visible in Ha emi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eams extend up to ~ 10,000 km abov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romosphere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cules = filaments of hot gas, visible in Ha emi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ms extend up to ~ 10,000 km above 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nsition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~ 2300 – 2600 km abov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ition from moderate to high ion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~ 25,000 → 106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~ 107 → 105 cm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e selective heights in (UV) emission lines of ionized 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y a → ~ 2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II 977 → ~ 9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VI 1032 → ~ 30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 X 625 → ~ 1,40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nsition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~ 2300 – 2600 km above 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from moderate to high i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~ 25,000 → 106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~ 107 → 105 cm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e selective heights in (UV) emission lines of ionized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 a → ~ 20,00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II 977 → ~ 90,00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VI 1032 → ~ 300,00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 X 625 → ~ 1,400,00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hot (T ≥ 106 K), low-density (n ≤ 105 cm-3)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ar 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ot (T ≥ 106 K), low-density (n ≤ 105 cm-3)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e vs. Quiescent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Solar Max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Solar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vs. Quiescent 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Solar Max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Solar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 images of the sun reveal coronal ho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ise at the foot points of open field lines and are the origin of the solar wi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nal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 images of the sun reveal coronal ho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ise at the foot points of open field lines and are the origin of the solar w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 Structur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te of main energy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L/d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/R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ior Structure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 of main energy 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/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/R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 Structur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com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/R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2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He (x1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ior Structure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com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/R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He (x1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visible during sol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arent surfac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 F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inter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. incr. inw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visible during sol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arent surface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int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. incr. in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 visible consequence of con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visible consequence of conv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 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(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er regions of the photosphere (T ≈ 4000 K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e 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r regions of the photosphere (T ≈ 4000 K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Activity, seen in soft X-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Activity, seen in soft 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A6A5-C0E1-4E68-9FC5-37F224047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00E4-7E9A-4B89-A24D-E5CAD288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FF6E-C8FC-48E6-A341-1FA516194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41F0-EFFB-48E5-BC71-EBB515766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E6FF-9D83-405B-A8BC-AF193F9A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DA1D-0A5B-4AC4-A2B6-05435C00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FE5C-BB5F-4FEB-BEB6-E0E3F2CE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0343-27E3-4D57-9EC9-CA4366BB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BA2C-C5D0-4547-A55D-AD44EB33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663B-0B2F-4B69-8183-253C9EF8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9FA4-11B5-4E68-B9A6-9B693616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7FF8-271A-4808-9088-BC974C9B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6F04-9010-4453-B39C-961755620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file:///../PSc100/spring04/sun_streaming_plasma.mpeg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../PSc100/spring04/prominences.mpe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hyperlink" Target="file:///../PSc100/spring04/sun_1week_CMEs.mpeg" TargetMode="External"/><Relationship Id="rId4" Type="http://schemas.openxmlformats.org/officeDocument/2006/relationships/hyperlink" Target="file:///../PSc100/spring04/sun_1week_CMEs.mpeg" TargetMode="External"/><Relationship Id="rId5" Type="http://schemas.openxmlformats.org/officeDocument/2006/relationships/hyperlink" Target="file:///../PSc100/spring04/sun_flare_closeup.mpeg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../PSc100/spring04/1999_solar_eclipse2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file:///../PSc100/spring04/sun_activeregions_5days.mpeg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1a"/>
          <p:cNvPicPr/>
          <p:nvPr/>
        </p:nvPicPr>
        <p:blipFill>
          <a:blip r:embed="rId1"/>
          <a:stretch/>
        </p:blipFill>
        <p:spPr>
          <a:xfrm>
            <a:off x="1371600" y="81000"/>
            <a:ext cx="6710400" cy="6700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590920" y="9144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General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752480" y="2971800"/>
            <a:ext cx="7010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bsolute visual magnitude M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= 4.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1752480" y="53341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entral temperature = 15 million </a:t>
            </a:r>
            <a:r>
              <a:rPr b="0" lang="en-US" sz="2400" spc="-1" strike="noStrike" baseline="30000">
                <a:solidFill>
                  <a:srgbClr val="ffff66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2133720" y="47242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X = 0.73,  Y = 0.25,  Z = 0.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1752480" y="41911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Initial abund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1752480" y="23623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ge: ~ 4.52 G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1752480" y="18288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pectral type G2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1752480" y="59436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Effective (surface) temperature = 5770 </a:t>
            </a:r>
            <a:r>
              <a:rPr b="0" lang="en-US" sz="2400" spc="-1" strike="noStrike" baseline="30000">
                <a:solidFill>
                  <a:srgbClr val="ffff66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1752480" y="3581280"/>
            <a:ext cx="7010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bsolute bolometric magnitude M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Arial"/>
              </a:rPr>
              <a:t>bol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= 4.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3200400" y="15228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Magnetic Fields in Sun Spo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10a"/>
          <p:cNvPicPr/>
          <p:nvPr/>
        </p:nvPicPr>
        <p:blipFill>
          <a:blip r:embed="rId1"/>
          <a:stretch/>
        </p:blipFill>
        <p:spPr>
          <a:xfrm>
            <a:off x="533520" y="2057400"/>
            <a:ext cx="8229600" cy="36655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"/>
          <p:cNvSpPr/>
          <p:nvPr/>
        </p:nvSpPr>
        <p:spPr>
          <a:xfrm>
            <a:off x="1447920" y="10666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gnetic fields on the photosphere can be measured through the Zeeman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1600200" y="588312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un Spots are related to magnetic activity on the phot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Sun Spots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10b"/>
          <p:cNvPicPr/>
          <p:nvPr/>
        </p:nvPicPr>
        <p:blipFill>
          <a:blip r:embed="rId1"/>
          <a:stretch/>
        </p:blipFill>
        <p:spPr>
          <a:xfrm>
            <a:off x="1523880" y="1046160"/>
            <a:ext cx="6340680" cy="39067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3124080" y="501336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Related to magnetic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295280" y="5546880"/>
            <a:ext cx="678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Magnetic field in sun spots is about 1000 times stronger than aver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1066680" y="638496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In sun spots, magnetic field lines emerge out of the photosp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4114800" y="10666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Magnetic North P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4876920" y="1523880"/>
            <a:ext cx="380880" cy="68580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4952880" y="1523880"/>
            <a:ext cx="2286000" cy="137160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7391520" y="41911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Magnetic South P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"/>
          <p:cNvSpPr/>
          <p:nvPr/>
        </p:nvSpPr>
        <p:spPr>
          <a:xfrm flipH="1" flipV="1">
            <a:off x="5410080" y="2514600"/>
            <a:ext cx="1981440" cy="190512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 flipV="1">
            <a:off x="7391520" y="3276360"/>
            <a:ext cx="304560" cy="106668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5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Magnetic Lo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16"/>
          <p:cNvPicPr/>
          <p:nvPr/>
        </p:nvPicPr>
        <p:blipFill>
          <a:blip r:embed="rId1"/>
          <a:stretch/>
        </p:blipFill>
        <p:spPr>
          <a:xfrm>
            <a:off x="1981080" y="717480"/>
            <a:ext cx="5639040" cy="560700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0"/>
          <p:cNvSpPr/>
          <p:nvPr/>
        </p:nvSpPr>
        <p:spPr>
          <a:xfrm rot="20930400">
            <a:off x="3886200" y="4952520"/>
            <a:ext cx="439560" cy="416160"/>
          </a:xfrm>
          <a:custGeom>
            <a:avLst/>
            <a:gdLst>
              <a:gd name="textAreaLeft" fmla="*/ 76680 w 439560"/>
              <a:gd name="textAreaRight" fmla="*/ 318600 w 439560"/>
              <a:gd name="textAreaTop" fmla="*/ 55800 h 416160"/>
              <a:gd name="textAreaBottom" fmla="*/ 360360 h 41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870550"/>
                <a:lnTo>
                  <a:pt x="21247" y="6525"/>
                </a:lnTo>
                <a:lnTo>
                  <a:pt x="17280" y="0"/>
                </a:lnTo>
                <a:lnTo>
                  <a:pt x="12607" y="6525"/>
                </a:lnTo>
                <a:lnTo>
                  <a:pt x="14767" y="6525"/>
                </a:lnTo>
                <a:arcTo wR="7560" hR="21600" stAng="2529450" swAng="2513115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9d8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3"/>
          <p:cNvSpPr/>
          <p:nvPr/>
        </p:nvSpPr>
        <p:spPr>
          <a:xfrm rot="20088000">
            <a:off x="5334120" y="4952520"/>
            <a:ext cx="668160" cy="408240"/>
          </a:xfrm>
          <a:custGeom>
            <a:avLst/>
            <a:gdLst>
              <a:gd name="textAreaLeft" fmla="*/ 116640 w 668160"/>
              <a:gd name="textAreaRight" fmla="*/ 484560 w 668160"/>
              <a:gd name="textAreaTop" fmla="*/ 54720 h 408240"/>
              <a:gd name="textAreaBottom" fmla="*/ 353520 h 40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870550"/>
                <a:lnTo>
                  <a:pt x="21247" y="6525"/>
                </a:lnTo>
                <a:lnTo>
                  <a:pt x="17280" y="0"/>
                </a:lnTo>
                <a:lnTo>
                  <a:pt x="12607" y="6525"/>
                </a:lnTo>
                <a:lnTo>
                  <a:pt x="14767" y="6525"/>
                </a:lnTo>
                <a:arcTo wR="7560" hR="21600" stAng="2529450" swAng="2513115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9d8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4"/>
          <p:cNvSpPr/>
          <p:nvPr/>
        </p:nvSpPr>
        <p:spPr>
          <a:xfrm rot="9278400">
            <a:off x="5105160" y="2133720"/>
            <a:ext cx="523800" cy="411120"/>
          </a:xfrm>
          <a:custGeom>
            <a:avLst/>
            <a:gdLst>
              <a:gd name="textAreaLeft" fmla="*/ 91440 w 523800"/>
              <a:gd name="textAreaRight" fmla="*/ 379800 w 523800"/>
              <a:gd name="textAreaTop" fmla="*/ 55080 h 411120"/>
              <a:gd name="textAreaBottom" fmla="*/ 356040 h 41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9d8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5"/>
          <p:cNvSpPr/>
          <p:nvPr/>
        </p:nvSpPr>
        <p:spPr>
          <a:xfrm rot="10551000">
            <a:off x="2663640" y="1971360"/>
            <a:ext cx="360360" cy="419040"/>
          </a:xfrm>
          <a:custGeom>
            <a:avLst/>
            <a:gdLst>
              <a:gd name="textAreaLeft" fmla="*/ 63000 w 360360"/>
              <a:gd name="textAreaRight" fmla="*/ 261360 w 360360"/>
              <a:gd name="textAreaTop" fmla="*/ 56160 h 419040"/>
              <a:gd name="textAreaBottom" fmla="*/ 362880 h 41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9d8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2514600" y="3046320"/>
            <a:ext cx="28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d80c"/>
                </a:solidFill>
                <a:latin typeface="Arial"/>
              </a:rPr>
              <a:t>Magnetic field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7"/>
          <p:cNvSpPr/>
          <p:nvPr/>
        </p:nvSpPr>
        <p:spPr>
          <a:xfrm flipH="1" flipV="1">
            <a:off x="3123720" y="2436480"/>
            <a:ext cx="506520" cy="561960"/>
          </a:xfrm>
          <a:prstGeom prst="line">
            <a:avLst/>
          </a:prstGeom>
          <a:ln w="38160">
            <a:solidFill>
              <a:srgbClr val="29d8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8"/>
          <p:cNvSpPr/>
          <p:nvPr/>
        </p:nvSpPr>
        <p:spPr>
          <a:xfrm flipV="1">
            <a:off x="3886200" y="2513160"/>
            <a:ext cx="1301760" cy="490320"/>
          </a:xfrm>
          <a:prstGeom prst="line">
            <a:avLst/>
          </a:prstGeom>
          <a:ln w="38160">
            <a:solidFill>
              <a:srgbClr val="29d8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9"/>
          <p:cNvSpPr/>
          <p:nvPr/>
        </p:nvSpPr>
        <p:spPr>
          <a:xfrm>
            <a:off x="3809880" y="3503520"/>
            <a:ext cx="289080" cy="1684440"/>
          </a:xfrm>
          <a:prstGeom prst="line">
            <a:avLst/>
          </a:prstGeom>
          <a:ln w="38160">
            <a:solidFill>
              <a:srgbClr val="29d8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0"/>
          <p:cNvSpPr/>
          <p:nvPr/>
        </p:nvSpPr>
        <p:spPr>
          <a:xfrm>
            <a:off x="3886200" y="3503520"/>
            <a:ext cx="1735200" cy="1684440"/>
          </a:xfrm>
          <a:prstGeom prst="line">
            <a:avLst/>
          </a:prstGeom>
          <a:ln w="38160">
            <a:solidFill>
              <a:srgbClr val="29d8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1"/>
          <p:cNvSpPr/>
          <p:nvPr/>
        </p:nvSpPr>
        <p:spPr>
          <a:xfrm>
            <a:off x="304920" y="63244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ss ejection from the sun often follow magnetic field loo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olar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13a"/>
          <p:cNvPicPr/>
          <p:nvPr/>
        </p:nvPicPr>
        <p:blipFill>
          <a:blip r:embed="rId1"/>
          <a:stretch/>
        </p:blipFill>
        <p:spPr>
          <a:xfrm>
            <a:off x="914400" y="838080"/>
            <a:ext cx="7162920" cy="35816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9"/>
          <p:cNvSpPr/>
          <p:nvPr/>
        </p:nvSpPr>
        <p:spPr>
          <a:xfrm>
            <a:off x="2743200" y="1219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1-year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1905120" y="45720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versal of magnetic po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1"/>
          <p:cNvSpPr/>
          <p:nvPr/>
        </p:nvSpPr>
        <p:spPr>
          <a:xfrm flipH="1" flipV="1">
            <a:off x="3276360" y="3809520"/>
            <a:ext cx="533160" cy="7621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2"/>
          <p:cNvSpPr/>
          <p:nvPr/>
        </p:nvSpPr>
        <p:spPr>
          <a:xfrm flipV="1">
            <a:off x="3886200" y="3809520"/>
            <a:ext cx="838080" cy="7621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1447920" y="5181480"/>
            <a:ext cx="64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fter 11 years, North/South order of leading/trailing sun spots is rever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2362320" y="60958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=&gt; Total solar cycle = 22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6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51055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un’s Magnetic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3" descr="17"/>
          <p:cNvPicPr/>
          <p:nvPr/>
        </p:nvPicPr>
        <p:blipFill>
          <a:blip r:embed="rId1"/>
          <a:stretch/>
        </p:blipFill>
        <p:spPr>
          <a:xfrm>
            <a:off x="5934240" y="76320"/>
            <a:ext cx="2904840" cy="67816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4"/>
          <p:cNvSpPr/>
          <p:nvPr/>
        </p:nvSpPr>
        <p:spPr>
          <a:xfrm>
            <a:off x="914400" y="198108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fter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1 year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, the magnetic field pattern becomes so complex that the field structure i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-arranged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914400" y="36576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ew magnetic field structure is similar to the original one, but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versed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914400" y="51372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ew 11-year cycl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start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ith reversed magnetic-field ori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olar Cycle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14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24591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6"/>
          <p:cNvSpPr/>
          <p:nvPr/>
        </p:nvSpPr>
        <p:spPr>
          <a:xfrm>
            <a:off x="1905120" y="39625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aunder Butterfly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1981080" y="4572000"/>
            <a:ext cx="56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un spot cycl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tarts out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with spots at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igher latitude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on the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209680" y="548640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volve to lower latitude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(towards the equator) throughout the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3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Maunder Minim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19"/>
          <p:cNvPicPr/>
          <p:nvPr/>
        </p:nvPicPr>
        <p:blipFill>
          <a:blip r:embed="rId1"/>
          <a:stretch/>
        </p:blipFill>
        <p:spPr>
          <a:xfrm>
            <a:off x="457200" y="2438280"/>
            <a:ext cx="8229600" cy="26370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4"/>
          <p:cNvSpPr/>
          <p:nvPr/>
        </p:nvSpPr>
        <p:spPr>
          <a:xfrm>
            <a:off x="1600200" y="123516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sun spot number also fluctuates on much longer time sc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219320" y="54100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istorical data indicate a very quiet phase of the sun, ~ 1650 – 1700: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aunder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6"/>
          <p:cNvSpPr/>
          <p:nvPr/>
        </p:nvSpPr>
        <p:spPr>
          <a:xfrm>
            <a:off x="1371600" y="4267080"/>
            <a:ext cx="1066680" cy="3812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1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omin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looped_prominences_uv"/>
          <p:cNvPicPr/>
          <p:nvPr/>
        </p:nvPicPr>
        <p:blipFill>
          <a:blip r:embed="rId2"/>
          <a:stretch/>
        </p:blipFill>
        <p:spPr>
          <a:xfrm>
            <a:off x="1600200" y="838080"/>
            <a:ext cx="6370560" cy="477864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6"/>
          <p:cNvSpPr/>
          <p:nvPr/>
        </p:nvSpPr>
        <p:spPr>
          <a:xfrm>
            <a:off x="838080" y="579132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ooped Prominences: gas ejected from the sun’s photosphere, flowing along magnetic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2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eruptive_prominence_uv"/>
          <p:cNvPicPr/>
          <p:nvPr/>
        </p:nvPicPr>
        <p:blipFill>
          <a:blip r:embed="rId1"/>
          <a:stretch/>
        </p:blipFill>
        <p:spPr>
          <a:xfrm>
            <a:off x="4114800" y="76320"/>
            <a:ext cx="4419720" cy="33145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prominence_uv1"/>
          <p:cNvPicPr/>
          <p:nvPr/>
        </p:nvPicPr>
        <p:blipFill>
          <a:blip r:embed="rId2"/>
          <a:stretch/>
        </p:blipFill>
        <p:spPr>
          <a:xfrm>
            <a:off x="4114800" y="342900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6"/>
          <p:cNvSpPr/>
          <p:nvPr/>
        </p:nvSpPr>
        <p:spPr>
          <a:xfrm>
            <a:off x="380880" y="76212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ruptive Promin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7"/>
          <p:cNvSpPr/>
          <p:nvPr/>
        </p:nvSpPr>
        <p:spPr>
          <a:xfrm flipV="1">
            <a:off x="3276720" y="914400"/>
            <a:ext cx="38098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6248520" y="6477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Ultraviolet im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228600" y="3733920"/>
            <a:ext cx="365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treme events, called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oronal mass ejections (CMEs)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d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olar flares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can significantly influence Earth’s magnetic field structure and cause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northern lights (aurora boreali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4" descr="prominence_coronaltransient"/>
          <p:cNvPicPr/>
          <p:nvPr/>
        </p:nvPicPr>
        <p:blipFill>
          <a:blip r:embed="rId1"/>
          <a:stretch/>
        </p:blipFill>
        <p:spPr>
          <a:xfrm>
            <a:off x="3657600" y="3505320"/>
            <a:ext cx="4343400" cy="32572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prominence_uv2"/>
          <p:cNvPicPr/>
          <p:nvPr/>
        </p:nvPicPr>
        <p:blipFill>
          <a:blip r:embed="rId2"/>
          <a:stretch/>
        </p:blipFill>
        <p:spPr>
          <a:xfrm>
            <a:off x="4191120" y="15228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"/>
          <p:cNvSpPr/>
          <p:nvPr/>
        </p:nvSpPr>
        <p:spPr>
          <a:xfrm>
            <a:off x="152280" y="1143000"/>
            <a:ext cx="358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ruptive Promin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7"/>
          <p:cNvSpPr/>
          <p:nvPr/>
        </p:nvSpPr>
        <p:spPr>
          <a:xfrm flipV="1">
            <a:off x="2590920" y="914400"/>
            <a:ext cx="289548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>
            <a:off x="2438280" y="2590920"/>
            <a:ext cx="3505320" cy="2743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380880" y="39625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Ultraviolet ima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un’s Interior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11"/>
          <p:cNvPicPr/>
          <p:nvPr/>
        </p:nvPicPr>
        <p:blipFill>
          <a:blip r:embed="rId1"/>
          <a:stretch/>
        </p:blipFill>
        <p:spPr>
          <a:xfrm>
            <a:off x="3809880" y="106668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63" name="Line 7"/>
          <p:cNvSpPr/>
          <p:nvPr/>
        </p:nvSpPr>
        <p:spPr>
          <a:xfrm>
            <a:off x="4572000" y="6095880"/>
            <a:ext cx="32004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3505320" y="6172200"/>
            <a:ext cx="5638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Temp, density and pressure decr. outw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1143000" y="44197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nergy generation via nuclear 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1143000" y="31240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nergy transport via 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1143000" y="16765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nergy transport via conv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 flipV="1">
            <a:off x="1066680" y="1371240"/>
            <a:ext cx="0" cy="3429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 rot="16200000">
            <a:off x="-944280" y="27115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low  of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4"/>
          <p:cNvSpPr/>
          <p:nvPr/>
        </p:nvSpPr>
        <p:spPr>
          <a:xfrm flipV="1">
            <a:off x="3733920" y="4800600"/>
            <a:ext cx="838080" cy="763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5"/>
          <p:cNvSpPr/>
          <p:nvPr/>
        </p:nvSpPr>
        <p:spPr>
          <a:xfrm flipV="1">
            <a:off x="3352680" y="3352320"/>
            <a:ext cx="1143000" cy="2286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6"/>
          <p:cNvSpPr/>
          <p:nvPr/>
        </p:nvSpPr>
        <p:spPr>
          <a:xfrm flipV="1">
            <a:off x="3276720" y="2057040"/>
            <a:ext cx="761760" cy="2286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1447920" y="1066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hot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8"/>
          <p:cNvSpPr/>
          <p:nvPr/>
        </p:nvSpPr>
        <p:spPr>
          <a:xfrm>
            <a:off x="3352680" y="1295280"/>
            <a:ext cx="76212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seedssun081"/>
          <p:cNvPicPr/>
          <p:nvPr/>
        </p:nvPicPr>
        <p:blipFill>
          <a:blip r:embed="rId1"/>
          <a:stretch/>
        </p:blipFill>
        <p:spPr>
          <a:xfrm>
            <a:off x="152280" y="152280"/>
            <a:ext cx="3962520" cy="24717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seedssun082"/>
          <p:cNvPicPr/>
          <p:nvPr/>
        </p:nvPicPr>
        <p:blipFill>
          <a:blip r:embed="rId2"/>
          <a:stretch/>
        </p:blipFill>
        <p:spPr>
          <a:xfrm>
            <a:off x="6019920" y="304920"/>
            <a:ext cx="2895480" cy="20383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seedssun083"/>
          <p:cNvPicPr/>
          <p:nvPr/>
        </p:nvPicPr>
        <p:blipFill>
          <a:blip r:embed="rId3"/>
          <a:stretch/>
        </p:blipFill>
        <p:spPr>
          <a:xfrm>
            <a:off x="6019920" y="2495520"/>
            <a:ext cx="2895480" cy="215892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99072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Solar Aur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6" descr="seedssun084"/>
          <p:cNvPicPr/>
          <p:nvPr/>
        </p:nvPicPr>
        <p:blipFill>
          <a:blip r:embed="rId4"/>
          <a:stretch/>
        </p:blipFill>
        <p:spPr>
          <a:xfrm>
            <a:off x="6019920" y="4789440"/>
            <a:ext cx="2895480" cy="206856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7"/>
          <p:cNvSpPr/>
          <p:nvPr/>
        </p:nvSpPr>
        <p:spPr>
          <a:xfrm>
            <a:off x="4343400" y="4788000"/>
            <a:ext cx="167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ound waves produced by a solar fl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5715000" y="1295280"/>
            <a:ext cx="0" cy="22100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 rot="16200000">
            <a:off x="4534920" y="2094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~ 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0" descr="seedssun085"/>
          <p:cNvPicPr/>
          <p:nvPr/>
        </p:nvPicPr>
        <p:blipFill>
          <a:blip r:embed="rId5"/>
          <a:stretch/>
        </p:blipFill>
        <p:spPr>
          <a:xfrm>
            <a:off x="380880" y="3649680"/>
            <a:ext cx="3429000" cy="252252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11"/>
          <p:cNvSpPr/>
          <p:nvPr/>
        </p:nvSpPr>
        <p:spPr>
          <a:xfrm>
            <a:off x="304920" y="61722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Coronal mass ej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9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Chrom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04"/>
          <p:cNvPicPr/>
          <p:nvPr/>
        </p:nvPicPr>
        <p:blipFill>
          <a:blip r:embed="rId1"/>
          <a:stretch/>
        </p:blipFill>
        <p:spPr>
          <a:xfrm>
            <a:off x="5029200" y="1243080"/>
            <a:ext cx="3886200" cy="386244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6"/>
          <p:cNvSpPr/>
          <p:nvPr/>
        </p:nvSpPr>
        <p:spPr>
          <a:xfrm>
            <a:off x="4952880" y="13111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romospheric structures visible in H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e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762120" y="9144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gion of sun’s atmosphere just above the photosp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9" descr="03"/>
          <p:cNvPicPr/>
          <p:nvPr/>
        </p:nvPicPr>
        <p:blipFill>
          <a:blip r:embed="rId2"/>
          <a:stretch/>
        </p:blipFill>
        <p:spPr>
          <a:xfrm>
            <a:off x="152280" y="2276640"/>
            <a:ext cx="4648320" cy="3187440"/>
          </a:xfrm>
          <a:prstGeom prst="rect">
            <a:avLst/>
          </a:prstGeom>
          <a:ln w="0">
            <a:noFill/>
          </a:ln>
        </p:spPr>
      </p:pic>
      <p:sp>
        <p:nvSpPr>
          <p:cNvPr id="28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609480" y="5638680"/>
            <a:ext cx="358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: 4400 K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25,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n: 10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11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cm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-3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→ 10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7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cm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4800600" y="53658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bsorption and emission lines from singly ionized metals (He II, Fe II, Si II, Cr II, Ca 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Chromosphere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5" descr="05"/>
          <p:cNvPicPr/>
          <p:nvPr/>
        </p:nvPicPr>
        <p:blipFill>
          <a:blip r:embed="rId1"/>
          <a:stretch/>
        </p:blipFill>
        <p:spPr>
          <a:xfrm>
            <a:off x="1295280" y="1295280"/>
            <a:ext cx="4543560" cy="45259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7"/>
          <p:cNvSpPr/>
          <p:nvPr/>
        </p:nvSpPr>
        <p:spPr>
          <a:xfrm>
            <a:off x="6400800" y="2362320"/>
            <a:ext cx="2133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picules = filaments of hot gas, visible in H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emi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9"/>
          <p:cNvSpPr/>
          <p:nvPr/>
        </p:nvSpPr>
        <p:spPr>
          <a:xfrm>
            <a:off x="990720" y="61722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reams extend up to ~ 10,000 km above phot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Transition Z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5562720" y="175248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 ~ 2300 – 2600 km above phot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838080" y="9907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ransition from moderate to high io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6" descr="03"/>
          <p:cNvPicPr/>
          <p:nvPr/>
        </p:nvPicPr>
        <p:blipFill>
          <a:blip r:embed="rId1"/>
          <a:stretch/>
        </p:blipFill>
        <p:spPr>
          <a:xfrm>
            <a:off x="304920" y="1881360"/>
            <a:ext cx="5257800" cy="3605040"/>
          </a:xfrm>
          <a:prstGeom prst="rect">
            <a:avLst/>
          </a:prstGeom>
          <a:ln w="0">
            <a:noFill/>
          </a:ln>
        </p:spPr>
      </p:pic>
      <p:sp>
        <p:nvSpPr>
          <p:cNvPr id="2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914400" y="3200400"/>
            <a:ext cx="449568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5638680" y="2743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 ~ 25,000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1"/>
          <p:cNvSpPr/>
          <p:nvPr/>
        </p:nvSpPr>
        <p:spPr>
          <a:xfrm>
            <a:off x="5715000" y="3429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 ~ 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c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2"/>
          <p:cNvSpPr/>
          <p:nvPr/>
        </p:nvSpPr>
        <p:spPr>
          <a:xfrm>
            <a:off x="5486400" y="40705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bserve selective heights in (UV) emission lines of ionized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3"/>
          <p:cNvSpPr/>
          <p:nvPr/>
        </p:nvSpPr>
        <p:spPr>
          <a:xfrm>
            <a:off x="609480" y="55627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y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~ 20,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4"/>
          <p:cNvSpPr/>
          <p:nvPr/>
        </p:nvSpPr>
        <p:spPr>
          <a:xfrm>
            <a:off x="380880" y="61722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III 977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~ 90,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5"/>
          <p:cNvSpPr/>
          <p:nvPr/>
        </p:nvSpPr>
        <p:spPr>
          <a:xfrm>
            <a:off x="4343400" y="56386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 VI 1032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~ 300,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6"/>
          <p:cNvSpPr/>
          <p:nvPr/>
        </p:nvSpPr>
        <p:spPr>
          <a:xfrm>
            <a:off x="4572000" y="6172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g X 625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~ 1,400,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6" descr="01b"/>
          <p:cNvPicPr/>
          <p:nvPr/>
        </p:nvPicPr>
        <p:blipFill>
          <a:blip r:embed="rId1"/>
          <a:stretch/>
        </p:blipFill>
        <p:spPr>
          <a:xfrm>
            <a:off x="1523880" y="762120"/>
            <a:ext cx="5867640" cy="542772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8"/>
          <p:cNvSpPr/>
          <p:nvPr/>
        </p:nvSpPr>
        <p:spPr>
          <a:xfrm>
            <a:off x="2133720" y="0"/>
            <a:ext cx="487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he Solar Coro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9"/>
          <p:cNvSpPr/>
          <p:nvPr/>
        </p:nvSpPr>
        <p:spPr>
          <a:xfrm>
            <a:off x="1143000" y="6400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ery hot (T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≥ 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6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K), low-density (n ≤ 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5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cm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3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)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1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46080"/>
            <a:ext cx="403848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ctive vs. Quiescent Coro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active_corona"/>
          <p:cNvPicPr/>
          <p:nvPr/>
        </p:nvPicPr>
        <p:blipFill>
          <a:blip r:embed="rId1"/>
          <a:stretch/>
        </p:blipFill>
        <p:spPr>
          <a:xfrm>
            <a:off x="4648320" y="0"/>
            <a:ext cx="4572000" cy="32893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quiescent_corona"/>
          <p:cNvPicPr/>
          <p:nvPr/>
        </p:nvPicPr>
        <p:blipFill>
          <a:blip r:embed="rId2"/>
          <a:stretch/>
        </p:blipFill>
        <p:spPr>
          <a:xfrm>
            <a:off x="4648320" y="3313080"/>
            <a:ext cx="4724280" cy="354492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0"/>
          <p:cNvSpPr/>
          <p:nvPr/>
        </p:nvSpPr>
        <p:spPr>
          <a:xfrm>
            <a:off x="4572000" y="3276720"/>
            <a:ext cx="228600" cy="358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1"/>
          <p:cNvSpPr/>
          <p:nvPr/>
        </p:nvSpPr>
        <p:spPr>
          <a:xfrm>
            <a:off x="1600200" y="2743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ar Solar Max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1752480" y="6400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ar Solar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880" y="19836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ronal H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3" descr="seedssun086"/>
          <p:cNvPicPr/>
          <p:nvPr/>
        </p:nvPicPr>
        <p:blipFill>
          <a:blip r:embed="rId1"/>
          <a:stretch/>
        </p:blipFill>
        <p:spPr>
          <a:xfrm>
            <a:off x="304920" y="1523880"/>
            <a:ext cx="5867280" cy="49928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"/>
          <p:cNvSpPr/>
          <p:nvPr/>
        </p:nvSpPr>
        <p:spPr>
          <a:xfrm>
            <a:off x="6477120" y="18288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X-ray images of the sun reveal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oronal hole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5"/>
          <p:cNvSpPr/>
          <p:nvPr/>
        </p:nvSpPr>
        <p:spPr>
          <a:xfrm flipH="1">
            <a:off x="2361960" y="2895480"/>
            <a:ext cx="4267080" cy="1828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6477120" y="380988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se arise at the foot points of open field lines and are the origin of the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olar win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6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0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erior Structure of 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676520" y="10206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te of main energy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 flipV="1">
            <a:off x="1295280" y="213336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6"/>
          <p:cNvSpPr/>
          <p:nvPr/>
        </p:nvSpPr>
        <p:spPr>
          <a:xfrm flipV="1">
            <a:off x="1295280" y="5866920"/>
            <a:ext cx="6858000" cy="76320"/>
          </a:xfrm>
          <a:custGeom>
            <a:avLst/>
            <a:gdLst/>
            <a:ahLst/>
            <a:rect l="l" t="t" r="r" b="b"/>
            <a:pathLst>
              <a:path w="3554" h="2">
                <a:moveTo>
                  <a:pt x="0" y="2"/>
                </a:moveTo>
                <a:lnTo>
                  <a:pt x="35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 rot="16200000">
            <a:off x="344160" y="3313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L/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5943600" y="6019920"/>
            <a:ext cx="140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/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>
            <a:off x="19810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0"/>
          <p:cNvSpPr/>
          <p:nvPr/>
        </p:nvSpPr>
        <p:spPr>
          <a:xfrm>
            <a:off x="26668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1"/>
          <p:cNvSpPr/>
          <p:nvPr/>
        </p:nvSpPr>
        <p:spPr>
          <a:xfrm>
            <a:off x="33526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2"/>
          <p:cNvSpPr/>
          <p:nvPr/>
        </p:nvSpPr>
        <p:spPr>
          <a:xfrm>
            <a:off x="40384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3"/>
          <p:cNvSpPr/>
          <p:nvPr/>
        </p:nvSpPr>
        <p:spPr>
          <a:xfrm>
            <a:off x="47242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4"/>
          <p:cNvSpPr/>
          <p:nvPr/>
        </p:nvSpPr>
        <p:spPr>
          <a:xfrm>
            <a:off x="54100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4419720" y="5867280"/>
            <a:ext cx="8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365760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304812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236232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1676520" y="586728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20"/>
          <p:cNvSpPr/>
          <p:nvPr/>
        </p:nvSpPr>
        <p:spPr>
          <a:xfrm>
            <a:off x="1295280" y="2436840"/>
            <a:ext cx="5249880" cy="3456000"/>
          </a:xfrm>
          <a:custGeom>
            <a:avLst/>
            <a:gdLst/>
            <a:ahLst/>
            <a:rect l="l" t="t" r="r" b="b"/>
            <a:pathLst>
              <a:path w="3307" h="2177">
                <a:moveTo>
                  <a:pt x="0" y="2161"/>
                </a:moveTo>
                <a:cubicBezTo>
                  <a:pt x="22" y="2120"/>
                  <a:pt x="97" y="2010"/>
                  <a:pt x="131" y="1912"/>
                </a:cubicBezTo>
                <a:cubicBezTo>
                  <a:pt x="165" y="1814"/>
                  <a:pt x="185" y="1705"/>
                  <a:pt x="210" y="1574"/>
                </a:cubicBezTo>
                <a:cubicBezTo>
                  <a:pt x="234" y="1443"/>
                  <a:pt x="262" y="1275"/>
                  <a:pt x="277" y="1126"/>
                </a:cubicBezTo>
                <a:cubicBezTo>
                  <a:pt x="292" y="977"/>
                  <a:pt x="286" y="843"/>
                  <a:pt x="300" y="678"/>
                </a:cubicBezTo>
                <a:cubicBezTo>
                  <a:pt x="315" y="513"/>
                  <a:pt x="328" y="243"/>
                  <a:pt x="366" y="138"/>
                </a:cubicBezTo>
                <a:cubicBezTo>
                  <a:pt x="404" y="33"/>
                  <a:pt x="483" y="0"/>
                  <a:pt x="529" y="49"/>
                </a:cubicBezTo>
                <a:cubicBezTo>
                  <a:pt x="576" y="98"/>
                  <a:pt x="591" y="221"/>
                  <a:pt x="647" y="433"/>
                </a:cubicBezTo>
                <a:cubicBezTo>
                  <a:pt x="703" y="645"/>
                  <a:pt x="783" y="1067"/>
                  <a:pt x="871" y="1318"/>
                </a:cubicBezTo>
                <a:cubicBezTo>
                  <a:pt x="959" y="1569"/>
                  <a:pt x="1073" y="1807"/>
                  <a:pt x="1174" y="1939"/>
                </a:cubicBezTo>
                <a:cubicBezTo>
                  <a:pt x="1274" y="2071"/>
                  <a:pt x="1351" y="2076"/>
                  <a:pt x="1470" y="2113"/>
                </a:cubicBezTo>
                <a:cubicBezTo>
                  <a:pt x="1589" y="2150"/>
                  <a:pt x="1692" y="2150"/>
                  <a:pt x="1890" y="2159"/>
                </a:cubicBezTo>
                <a:cubicBezTo>
                  <a:pt x="2088" y="2168"/>
                  <a:pt x="2422" y="2165"/>
                  <a:pt x="2658" y="2168"/>
                </a:cubicBezTo>
                <a:cubicBezTo>
                  <a:pt x="2894" y="2171"/>
                  <a:pt x="3172" y="2175"/>
                  <a:pt x="3307" y="217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erior Structure of 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971800" y="1020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ss 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"/>
          <p:cNvSpPr/>
          <p:nvPr/>
        </p:nvSpPr>
        <p:spPr>
          <a:xfrm flipV="1">
            <a:off x="1752480" y="213336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5"/>
          <p:cNvSpPr/>
          <p:nvPr/>
        </p:nvSpPr>
        <p:spPr>
          <a:xfrm flipV="1">
            <a:off x="1752480" y="5866920"/>
            <a:ext cx="6858000" cy="76320"/>
          </a:xfrm>
          <a:custGeom>
            <a:avLst/>
            <a:gdLst/>
            <a:ahLst/>
            <a:rect l="l" t="t" r="r" b="b"/>
            <a:pathLst>
              <a:path w="3554" h="2">
                <a:moveTo>
                  <a:pt x="0" y="2"/>
                </a:moveTo>
                <a:lnTo>
                  <a:pt x="35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 rot="16200000">
            <a:off x="-531720" y="3274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400800" y="6019920"/>
            <a:ext cx="140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/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24382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31240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>
            <a:off x="38098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>
            <a:off x="44956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51814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3"/>
          <p:cNvSpPr/>
          <p:nvPr/>
        </p:nvSpPr>
        <p:spPr>
          <a:xfrm>
            <a:off x="58672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4876920" y="5867280"/>
            <a:ext cx="8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411480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350532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281952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2057400" y="586728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5560920" y="5867280"/>
            <a:ext cx="8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1"/>
          <p:cNvSpPr/>
          <p:nvPr/>
        </p:nvSpPr>
        <p:spPr>
          <a:xfrm>
            <a:off x="1752480" y="55627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2"/>
          <p:cNvSpPr/>
          <p:nvPr/>
        </p:nvSpPr>
        <p:spPr>
          <a:xfrm>
            <a:off x="1752480" y="5181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3"/>
          <p:cNvSpPr/>
          <p:nvPr/>
        </p:nvSpPr>
        <p:spPr>
          <a:xfrm>
            <a:off x="1752480" y="48006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4"/>
          <p:cNvSpPr/>
          <p:nvPr/>
        </p:nvSpPr>
        <p:spPr>
          <a:xfrm>
            <a:off x="1752480" y="44197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5"/>
          <p:cNvSpPr/>
          <p:nvPr/>
        </p:nvSpPr>
        <p:spPr>
          <a:xfrm>
            <a:off x="1752480" y="41148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6"/>
          <p:cNvSpPr/>
          <p:nvPr/>
        </p:nvSpPr>
        <p:spPr>
          <a:xfrm>
            <a:off x="1752480" y="38098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7"/>
          <p:cNvSpPr/>
          <p:nvPr/>
        </p:nvSpPr>
        <p:spPr>
          <a:xfrm>
            <a:off x="1752480" y="3505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8"/>
          <p:cNvSpPr/>
          <p:nvPr/>
        </p:nvSpPr>
        <p:spPr>
          <a:xfrm>
            <a:off x="1752480" y="32004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9"/>
          <p:cNvSpPr/>
          <p:nvPr/>
        </p:nvSpPr>
        <p:spPr>
          <a:xfrm>
            <a:off x="1233360" y="53341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0"/>
          <p:cNvSpPr/>
          <p:nvPr/>
        </p:nvSpPr>
        <p:spPr>
          <a:xfrm>
            <a:off x="1233360" y="35812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1"/>
          <p:cNvSpPr/>
          <p:nvPr/>
        </p:nvSpPr>
        <p:spPr>
          <a:xfrm>
            <a:off x="1219320" y="29718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2"/>
          <p:cNvSpPr/>
          <p:nvPr/>
        </p:nvSpPr>
        <p:spPr>
          <a:xfrm>
            <a:off x="1233360" y="32767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3"/>
          <p:cNvSpPr/>
          <p:nvPr/>
        </p:nvSpPr>
        <p:spPr>
          <a:xfrm>
            <a:off x="1233360" y="38703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4"/>
          <p:cNvSpPr/>
          <p:nvPr/>
        </p:nvSpPr>
        <p:spPr>
          <a:xfrm>
            <a:off x="1219320" y="41911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5"/>
          <p:cNvSpPr/>
          <p:nvPr/>
        </p:nvSpPr>
        <p:spPr>
          <a:xfrm>
            <a:off x="1233360" y="45720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6"/>
          <p:cNvSpPr/>
          <p:nvPr/>
        </p:nvSpPr>
        <p:spPr>
          <a:xfrm>
            <a:off x="1233360" y="49528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37"/>
          <p:cNvSpPr/>
          <p:nvPr/>
        </p:nvSpPr>
        <p:spPr>
          <a:xfrm>
            <a:off x="1752480" y="3187800"/>
            <a:ext cx="5867640" cy="1473120"/>
          </a:xfrm>
          <a:custGeom>
            <a:avLst/>
            <a:gdLst/>
            <a:ahLst/>
            <a:rect l="l" t="t" r="r" b="b"/>
            <a:pathLst>
              <a:path w="3696" h="928">
                <a:moveTo>
                  <a:pt x="0" y="920"/>
                </a:moveTo>
                <a:cubicBezTo>
                  <a:pt x="32" y="924"/>
                  <a:pt x="64" y="928"/>
                  <a:pt x="96" y="920"/>
                </a:cubicBezTo>
                <a:cubicBezTo>
                  <a:pt x="128" y="912"/>
                  <a:pt x="160" y="904"/>
                  <a:pt x="192" y="872"/>
                </a:cubicBezTo>
                <a:cubicBezTo>
                  <a:pt x="224" y="840"/>
                  <a:pt x="248" y="824"/>
                  <a:pt x="288" y="728"/>
                </a:cubicBezTo>
                <a:cubicBezTo>
                  <a:pt x="328" y="632"/>
                  <a:pt x="368" y="392"/>
                  <a:pt x="432" y="296"/>
                </a:cubicBezTo>
                <a:cubicBezTo>
                  <a:pt x="496" y="200"/>
                  <a:pt x="544" y="184"/>
                  <a:pt x="672" y="152"/>
                </a:cubicBezTo>
                <a:cubicBezTo>
                  <a:pt x="800" y="120"/>
                  <a:pt x="1032" y="112"/>
                  <a:pt x="1200" y="104"/>
                </a:cubicBezTo>
                <a:cubicBezTo>
                  <a:pt x="1368" y="96"/>
                  <a:pt x="1464" y="104"/>
                  <a:pt x="1680" y="104"/>
                </a:cubicBezTo>
                <a:cubicBezTo>
                  <a:pt x="1896" y="104"/>
                  <a:pt x="2312" y="112"/>
                  <a:pt x="2496" y="104"/>
                </a:cubicBezTo>
                <a:cubicBezTo>
                  <a:pt x="2680" y="96"/>
                  <a:pt x="2720" y="72"/>
                  <a:pt x="2784" y="56"/>
                </a:cubicBezTo>
                <a:cubicBezTo>
                  <a:pt x="2848" y="40"/>
                  <a:pt x="2792" y="16"/>
                  <a:pt x="2880" y="8"/>
                </a:cubicBezTo>
                <a:cubicBezTo>
                  <a:pt x="2968" y="0"/>
                  <a:pt x="3176" y="8"/>
                  <a:pt x="3312" y="8"/>
                </a:cubicBezTo>
                <a:cubicBezTo>
                  <a:pt x="3448" y="8"/>
                  <a:pt x="3640" y="8"/>
                  <a:pt x="3696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8"/>
          <p:cNvSpPr/>
          <p:nvPr/>
        </p:nvSpPr>
        <p:spPr>
          <a:xfrm>
            <a:off x="6705720" y="274320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39"/>
          <p:cNvSpPr/>
          <p:nvPr/>
        </p:nvSpPr>
        <p:spPr>
          <a:xfrm>
            <a:off x="1752480" y="3657600"/>
            <a:ext cx="5791320" cy="1308240"/>
          </a:xfrm>
          <a:custGeom>
            <a:avLst/>
            <a:gdLst/>
            <a:ahLst/>
            <a:rect l="l" t="t" r="r" b="b"/>
            <a:pathLst>
              <a:path w="3648" h="824">
                <a:moveTo>
                  <a:pt x="0" y="0"/>
                </a:moveTo>
                <a:cubicBezTo>
                  <a:pt x="44" y="0"/>
                  <a:pt x="88" y="0"/>
                  <a:pt x="144" y="48"/>
                </a:cubicBezTo>
                <a:cubicBezTo>
                  <a:pt x="200" y="96"/>
                  <a:pt x="272" y="200"/>
                  <a:pt x="336" y="288"/>
                </a:cubicBezTo>
                <a:cubicBezTo>
                  <a:pt x="400" y="376"/>
                  <a:pt x="456" y="512"/>
                  <a:pt x="528" y="576"/>
                </a:cubicBezTo>
                <a:cubicBezTo>
                  <a:pt x="600" y="640"/>
                  <a:pt x="648" y="648"/>
                  <a:pt x="768" y="672"/>
                </a:cubicBezTo>
                <a:cubicBezTo>
                  <a:pt x="888" y="696"/>
                  <a:pt x="1040" y="712"/>
                  <a:pt x="1248" y="720"/>
                </a:cubicBezTo>
                <a:cubicBezTo>
                  <a:pt x="1456" y="728"/>
                  <a:pt x="1800" y="720"/>
                  <a:pt x="2016" y="720"/>
                </a:cubicBezTo>
                <a:cubicBezTo>
                  <a:pt x="2232" y="720"/>
                  <a:pt x="2424" y="712"/>
                  <a:pt x="2544" y="720"/>
                </a:cubicBezTo>
                <a:cubicBezTo>
                  <a:pt x="2664" y="728"/>
                  <a:pt x="2696" y="752"/>
                  <a:pt x="2736" y="768"/>
                </a:cubicBezTo>
                <a:cubicBezTo>
                  <a:pt x="2776" y="784"/>
                  <a:pt x="2728" y="808"/>
                  <a:pt x="2784" y="816"/>
                </a:cubicBezTo>
                <a:cubicBezTo>
                  <a:pt x="2840" y="824"/>
                  <a:pt x="2928" y="816"/>
                  <a:pt x="3072" y="816"/>
                </a:cubicBezTo>
                <a:cubicBezTo>
                  <a:pt x="3216" y="816"/>
                  <a:pt x="3432" y="816"/>
                  <a:pt x="3648" y="816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6019920" y="44956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41"/>
          <p:cNvSpPr/>
          <p:nvPr/>
        </p:nvSpPr>
        <p:spPr>
          <a:xfrm>
            <a:off x="1752480" y="4788000"/>
            <a:ext cx="5943600" cy="1087200"/>
          </a:xfrm>
          <a:custGeom>
            <a:avLst/>
            <a:gdLst/>
            <a:ahLst/>
            <a:rect l="l" t="t" r="r" b="b"/>
            <a:pathLst>
              <a:path w="3744" h="685">
                <a:moveTo>
                  <a:pt x="0" y="680"/>
                </a:moveTo>
                <a:cubicBezTo>
                  <a:pt x="52" y="675"/>
                  <a:pt x="201" y="666"/>
                  <a:pt x="313" y="650"/>
                </a:cubicBezTo>
                <a:cubicBezTo>
                  <a:pt x="425" y="634"/>
                  <a:pt x="569" y="613"/>
                  <a:pt x="670" y="586"/>
                </a:cubicBezTo>
                <a:cubicBezTo>
                  <a:pt x="771" y="559"/>
                  <a:pt x="850" y="535"/>
                  <a:pt x="917" y="486"/>
                </a:cubicBezTo>
                <a:cubicBezTo>
                  <a:pt x="984" y="437"/>
                  <a:pt x="1029" y="364"/>
                  <a:pt x="1072" y="294"/>
                </a:cubicBezTo>
                <a:cubicBezTo>
                  <a:pt x="1115" y="224"/>
                  <a:pt x="1141" y="105"/>
                  <a:pt x="1173" y="65"/>
                </a:cubicBezTo>
                <a:cubicBezTo>
                  <a:pt x="1205" y="25"/>
                  <a:pt x="1226" y="0"/>
                  <a:pt x="1264" y="56"/>
                </a:cubicBezTo>
                <a:cubicBezTo>
                  <a:pt x="1302" y="112"/>
                  <a:pt x="1352" y="318"/>
                  <a:pt x="1401" y="403"/>
                </a:cubicBezTo>
                <a:cubicBezTo>
                  <a:pt x="1450" y="488"/>
                  <a:pt x="1493" y="527"/>
                  <a:pt x="1557" y="568"/>
                </a:cubicBezTo>
                <a:cubicBezTo>
                  <a:pt x="1621" y="609"/>
                  <a:pt x="1693" y="631"/>
                  <a:pt x="1785" y="650"/>
                </a:cubicBezTo>
                <a:cubicBezTo>
                  <a:pt x="1877" y="669"/>
                  <a:pt x="1994" y="675"/>
                  <a:pt x="2112" y="680"/>
                </a:cubicBezTo>
                <a:cubicBezTo>
                  <a:pt x="2230" y="685"/>
                  <a:pt x="2368" y="680"/>
                  <a:pt x="2496" y="680"/>
                </a:cubicBezTo>
                <a:cubicBezTo>
                  <a:pt x="2624" y="680"/>
                  <a:pt x="2672" y="680"/>
                  <a:pt x="2880" y="680"/>
                </a:cubicBezTo>
                <a:cubicBezTo>
                  <a:pt x="3088" y="680"/>
                  <a:pt x="3416" y="680"/>
                  <a:pt x="3744" y="68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2"/>
          <p:cNvSpPr/>
          <p:nvPr/>
        </p:nvSpPr>
        <p:spPr>
          <a:xfrm>
            <a:off x="6019920" y="541008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cc00"/>
                </a:solidFill>
                <a:latin typeface="Arial"/>
              </a:rPr>
              <a:t>3</a:t>
            </a:r>
            <a:r>
              <a:rPr b="0" lang="en-US" sz="24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He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un’s Atm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03"/>
          <p:cNvPicPr/>
          <p:nvPr/>
        </p:nvPicPr>
        <p:blipFill>
          <a:blip r:embed="rId1"/>
          <a:stretch/>
        </p:blipFill>
        <p:spPr>
          <a:xfrm>
            <a:off x="2438280" y="1219320"/>
            <a:ext cx="6705720" cy="45957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228600" y="2209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nly visible during solar eclip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52280" y="449568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pparent surface of the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V="1">
            <a:off x="3886200" y="1600200"/>
            <a:ext cx="0" cy="49528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 rot="16200000">
            <a:off x="2782440" y="4989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eat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4724280" y="54864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3962520" y="617220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olar i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2"/>
          <p:cNvSpPr/>
          <p:nvPr/>
        </p:nvSpPr>
        <p:spPr>
          <a:xfrm>
            <a:off x="6934320" y="5715000"/>
            <a:ext cx="533160" cy="9144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7315200" y="5715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emp. incr. in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 flipV="1">
            <a:off x="2057400" y="1905120"/>
            <a:ext cx="2057400" cy="7617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>
            <a:off x="2057400" y="2743200"/>
            <a:ext cx="2286000" cy="1295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6"/>
          <p:cNvSpPr/>
          <p:nvPr/>
        </p:nvSpPr>
        <p:spPr>
          <a:xfrm>
            <a:off x="1981080" y="4952880"/>
            <a:ext cx="1295640" cy="3049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Gran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02a"/>
          <p:cNvPicPr/>
          <p:nvPr/>
        </p:nvPicPr>
        <p:blipFill>
          <a:blip r:embed="rId1"/>
          <a:stretch/>
        </p:blipFill>
        <p:spPr>
          <a:xfrm>
            <a:off x="228600" y="1371600"/>
            <a:ext cx="8686800" cy="38685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1523880" y="56386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s the visible consequence of conv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09"/>
          <p:cNvPicPr/>
          <p:nvPr/>
        </p:nvPicPr>
        <p:blipFill>
          <a:blip r:embed="rId1"/>
          <a:stretch/>
        </p:blipFill>
        <p:spPr>
          <a:xfrm>
            <a:off x="152280" y="1371600"/>
            <a:ext cx="8915400" cy="38926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6"/>
          <p:cNvSpPr/>
          <p:nvPr/>
        </p:nvSpPr>
        <p:spPr>
          <a:xfrm>
            <a:off x="3048120" y="22860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Sun Spots (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06a"/>
          <p:cNvPicPr/>
          <p:nvPr/>
        </p:nvPicPr>
        <p:blipFill>
          <a:blip r:embed="rId1"/>
          <a:stretch/>
        </p:blipFill>
        <p:spPr>
          <a:xfrm>
            <a:off x="457200" y="762120"/>
            <a:ext cx="3962520" cy="3962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06b"/>
          <p:cNvPicPr/>
          <p:nvPr/>
        </p:nvPicPr>
        <p:blipFill>
          <a:blip r:embed="rId2"/>
          <a:stretch/>
        </p:blipFill>
        <p:spPr>
          <a:xfrm>
            <a:off x="4800600" y="762120"/>
            <a:ext cx="3962520" cy="39621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6"/>
          <p:cNvSpPr/>
          <p:nvPr/>
        </p:nvSpPr>
        <p:spPr>
          <a:xfrm>
            <a:off x="1523880" y="-7632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Sun Spots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1676520" y="4724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5943600" y="4724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Ultravio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380880" y="56991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ooler region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of the photosphere (T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  <a:ea typeface="Arial"/>
              </a:rPr>
              <a:t>≈ 4000 K)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3809880" y="9144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ctive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2"/>
          <p:cNvSpPr/>
          <p:nvPr/>
        </p:nvSpPr>
        <p:spPr>
          <a:xfrm flipH="1">
            <a:off x="2514240" y="1371600"/>
            <a:ext cx="2133720" cy="533520"/>
          </a:xfrm>
          <a:prstGeom prst="line">
            <a:avLst/>
          </a:prstGeom>
          <a:ln w="38160">
            <a:solidFill>
              <a:srgbClr val="b1cf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3"/>
          <p:cNvSpPr/>
          <p:nvPr/>
        </p:nvSpPr>
        <p:spPr>
          <a:xfrm flipH="1">
            <a:off x="3962520" y="1371600"/>
            <a:ext cx="914400" cy="1752480"/>
          </a:xfrm>
          <a:prstGeom prst="line">
            <a:avLst/>
          </a:prstGeom>
          <a:ln w="38160">
            <a:solidFill>
              <a:srgbClr val="b1cf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5181480" y="1371600"/>
            <a:ext cx="914400" cy="838080"/>
          </a:xfrm>
          <a:prstGeom prst="line">
            <a:avLst/>
          </a:prstGeom>
          <a:ln w="38160">
            <a:solidFill>
              <a:srgbClr val="b1cf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5"/>
          <p:cNvSpPr/>
          <p:nvPr/>
        </p:nvSpPr>
        <p:spPr>
          <a:xfrm>
            <a:off x="5410080" y="1371600"/>
            <a:ext cx="2133720" cy="1676520"/>
          </a:xfrm>
          <a:prstGeom prst="line">
            <a:avLst/>
          </a:prstGeom>
          <a:ln w="38160">
            <a:solidFill>
              <a:srgbClr val="b1cf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sun_softxrays"/>
          <p:cNvPicPr/>
          <p:nvPr/>
        </p:nvPicPr>
        <p:blipFill>
          <a:blip r:embed="rId1"/>
          <a:stretch/>
        </p:blipFill>
        <p:spPr>
          <a:xfrm>
            <a:off x="1295280" y="609480"/>
            <a:ext cx="6604200" cy="49532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2057400" y="603396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olar Activity, seen in soft X-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1T21:45:08Z</dcterms:created>
  <dc:creator>Markus Boettcher</dc:creator>
  <dc:description/>
  <dc:language>en-US</dc:language>
  <cp:lastModifiedBy>Legion</cp:lastModifiedBy>
  <dcterms:modified xsi:type="dcterms:W3CDTF">2017-01-26T10:16:00Z</dcterms:modified>
  <cp:revision>195</cp:revision>
  <dc:subject/>
  <dc:title>Slide 1</dc:title>
</cp:coreProperties>
</file>